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1.gif" ContentType="image/gif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66E-4719-4278-9D3C-AC222A57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F402-E52A-4BF5-BFBF-1184E5F0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A8D-8573-4415-8F86-F6298445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7F3-FB86-4802-BECB-D536075A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84E3-41A2-4EA9-A250-CBF8A95F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CF1B-5CE0-4677-9DA3-BF2B76CD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AEC5-415D-4EE0-98A0-F79C8270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1A37-EAB9-44D4-AA0A-6FA0BAFC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D58D-39D2-4451-A043-E61723DA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CA4D-9AB5-4F52-8340-43B0B32E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C4FA-920F-45BB-A270-AE0B219C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8B01-210A-4A8E-B3AA-C52FF6EE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CBA2-429B-48A8-BB60-7B7A84A0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B206-9172-4DC9-8BD6-628AEE0B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57B6-8D15-414E-B3F0-F503770E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0B5D-16FF-4608-980C-710BDCCC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8F96-700C-44E1-88E4-7CB70A68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F075-EB00-4801-B9F6-6DE6DFDE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042-50D9-4F06-9CFB-B5DBB73B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C4B-FBCC-40D3-A826-03D09BAA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6134-D990-48AE-A21F-82788E01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841-3485-4C8C-B6CA-364A6A60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AE0-9732-4A77-ACBE-06D0991E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387-BD48-4BF6-BDE8-C9ED22EE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7944-8EBF-4F6A-8DAE-D70EEAC2BEC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B201-1590-48B1-8975-376DF686C2C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Impact"/>
              </a:rPr>
              <a:t>Pierwszeństwo przejazdu na skrzyżowaniach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284720" y="5589360"/>
            <a:ext cx="4456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aur"/>
              </a:rPr>
              <a:t>Opracował: Rafał Czub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24000" y="4724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godnie z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zasadą pierwszeństwa z prawej strony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ierujący pojazdem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ustępuje pierwszeństwa kierującemu pojazdem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411280" y="679320"/>
          <a:ext cx="403236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679320"/>
                    <a:ext cx="403236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4643280" y="3573360"/>
          <a:ext cx="35244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573360"/>
                    <a:ext cx="35244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5435640" y="2133720"/>
          <a:ext cx="51444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2133720"/>
                    <a:ext cx="5144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65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73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50920" y="522936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ierujący pojazdem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ma pierwszeństwo przed pojazdem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ale sam ustępuje pierwszeństwa tramwajowi (pojazd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2627280" y="1413000"/>
          <a:ext cx="3492360" cy="34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413000"/>
                    <a:ext cx="349236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284720" y="3789360"/>
          <a:ext cx="2570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3789360"/>
                    <a:ext cx="257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651640" y="2852640"/>
          <a:ext cx="247680" cy="1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2852640"/>
                    <a:ext cx="2476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4716360" y="3645000"/>
          <a:ext cx="181080" cy="18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3645000"/>
                    <a:ext cx="18108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83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0.00879 L -0.08733 -0.07237 C -0.10139 -0.09017 -0.12205 -0.09896 -0.14358 -0.0978 C -0.16823 -0.09664 -0.18768 -0.08578 -0.2007 -0.06635 L -0.26372 0.02128 E">
                                      <p:cBhvr>
                                        <p:cTn id="191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23 L 0.02761 -0.05665 C 0.03403 -0.06867 0.03733 -0.08625 0.03733 -0.10497 C 0.03733 -0.12625 0.03403 -0.14313 0.02761 -0.15515 L -0.00017 -0.21272 E">
                                      <p:cBhvr>
                                        <p:cTn id="199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Skrzyżowania nierównorzędn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888840" y="1690560"/>
            <a:ext cx="3300480" cy="33228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5435640" y="3376440"/>
            <a:ext cx="316872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49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Skrzyżowanie o ruchu okrężn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7749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892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Pierwszeństwo przejazdu na skrzyżowaniach nierównorzędnych mają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99128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wszystkie pojazdy będące na drodze z pierwszeństwem przejazdu             i nadjeżdżające z twojej prawej stron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pojazdy szynowe, które znajdują się na drodze z pierwszeństwem przejazdu, nawet gdy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nadjeżdżają    z twojej lewej strony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Sytuacje na skrzyżowaniach nierównorzędnych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258920" y="2492280"/>
          <a:ext cx="319068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492280"/>
                    <a:ext cx="319068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716000" y="2637000"/>
            <a:ext cx="4038840" cy="40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Kierujący rowerem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ustępuje pierwszeństwa rowerzyście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, kierujący rowerem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ustępuje pierwszeństwa rowerzyście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, rowerzysta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B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pierwszeństwo przejazdu przed rowerzystami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i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564000" y="3716280"/>
          <a:ext cx="33336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3716280"/>
                    <a:ext cx="33336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2987640" y="4869000"/>
          <a:ext cx="247680" cy="31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4869000"/>
                    <a:ext cx="24768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2484360" y="2997360"/>
          <a:ext cx="285840" cy="36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2997360"/>
                    <a:ext cx="28584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7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65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273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468360" y="537372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jazd szynowy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rzed znakami A-7 i C-12 ustępuje pierwszeństwa wszystkim, którzy są w ruchu okrężnym; pojazd szynowy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zjeżdża z ronda. Kierujący pojazdem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stępuje pierwszeństwa tylko pojazdowi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24000" y="5013360"/>
            <a:ext cx="784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Zarówno kierujący pojazdem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jak i pojazdem szynowym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mimo iż są na drodze z pierwszeństwem, ustępują pierwszeństwa pojazdowi uprzywilejowanemu w akcji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Rowerzysta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pojedzie w tym przypadku jako ostatni, gdyż pojazd szynowy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akże ma wobec niego pierwszeństw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2268360" y="765000"/>
            <a:ext cx="39974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291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ierującemu pojazdem</a:t>
            </a:r>
            <a:br>
              <a:rPr sz="4400"/>
            </a:br>
            <a:br>
              <a:rPr sz="2000"/>
            </a:b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Impact"/>
              </a:rPr>
              <a:t>zabrania się</a:t>
            </a:r>
            <a:br>
              <a:rPr sz="5400"/>
            </a:br>
            <a:br>
              <a:rPr sz="1800"/>
            </a:br>
            <a:r>
              <a:rPr b="0" lang="en-US" sz="4400" spc="-1" strike="noStrike">
                <a:solidFill>
                  <a:srgbClr val="ff3300"/>
                </a:solidFill>
                <a:latin typeface="Impact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jeżdżania na skrzyżowanie, jeżeli na skrzyżowaniu lub za nim nie ma miejsca do kontynuowania jazdy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859280" y="6021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fał Cz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Pierwszeństwo przejazdu na skrzyżowaniach mają zawsze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25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Verdana"/>
              </a:rPr>
              <a:t>Pojazdy uprzywilejowane biorące udział w akcji to znaczy: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pojazd wysyłający sygnały świetlne w postaci niebieskich świateł błyskowych i jednocześnie sygnały dźwiękowe o zmiennym tonie, jadący z włączonymi światłami mijania lub drogowy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Hierarchia ważności norm, znaków, sygnałów oraz poleceń w ruchu drogowym</a:t>
            </a:r>
            <a:endParaRPr b="0" lang="en-US" sz="3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6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ecenia i sygnały dawane przez osoby kierujące ruchem lub uprawnione do jego kontrol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ygnalizacja świetln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naki drogow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rmy zgodne z kodeksem drogowy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300720" y="1484280"/>
            <a:ext cx="808200" cy="12128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227640" y="5373720"/>
            <a:ext cx="1333800" cy="638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300720" y="4221000"/>
            <a:ext cx="825480" cy="8258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6300720" y="2852640"/>
            <a:ext cx="84132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Zbliżając się do skrzyżowania, jesteś obowiązany zachować szczególną ostrożność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i ustąpić pierwszeństwa przejazdu.</a:t>
            </a:r>
            <a:br>
              <a:rPr sz="5000"/>
            </a:br>
            <a:endParaRPr b="0" lang="en-US" sz="50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act"/>
              </a:rPr>
              <a:t>Rodzaje skrzyżowań</a:t>
            </a:r>
            <a:endParaRPr b="0" lang="en-US" sz="72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360" y="3068640"/>
            <a:ext cx="75628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krzyżowanie równorzęd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krzyżowania nierównorzęd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Skrzyżowania równorzędn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3365640" cy="33879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5292720" y="2205000"/>
            <a:ext cx="35053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Skrzyżowanie o ruchu okrężny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407988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Pierwszeństwo przejazdu na skrzyżowaniach równorzędnych mają: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wszystkie pojazdy nadjeżdżające z twojej prawej strony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pojazdy szynowe, nawet gdy nadjeżdżają z twojej lewej strony.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skręcając w lewo - wszystkim pojazdom nadjeżdżającym z przeciwka jadącym na wprost lub skręcającym w prawo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Sytuacje na skrzyżowaniach równorzędnych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042920" y="2133720"/>
          <a:ext cx="3130560" cy="31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33720"/>
                    <a:ext cx="313056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2195640" y="2421000"/>
          <a:ext cx="32364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2421000"/>
                    <a:ext cx="323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2771640" y="4365720"/>
          <a:ext cx="31464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4365720"/>
                    <a:ext cx="314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4427640" y="2060640"/>
            <a:ext cx="424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godnie z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zasadą pierwszeństwa z prawej stron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kierujący pojazdem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- skręcający w lewo, ustępuje pierwszeństwa pojazdowi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nadjeżdżającemu z przeciwka, jadącemu na wpr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0.04855 L -2.5E-006 0.33294 E">
                                      <p:cBhvr>
                                        <p:cTn id="147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87283E-006 L -0.00139 -0.15075 E">
                                      <p:cBhvr>
                                        <p:cTn id="155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9:33:36Z</dcterms:created>
  <dc:creator>administrator</dc:creator>
  <dc:description/>
  <dc:language>en-US</dc:language>
  <cp:lastModifiedBy>administrator</cp:lastModifiedBy>
  <dcterms:modified xsi:type="dcterms:W3CDTF">2002-12-06T11:14:33Z</dcterms:modified>
  <cp:revision>27</cp:revision>
  <dc:subject/>
  <dc:title>Pierwszeństwo przejazdu na skrzyżowaniach</dc:title>
</cp:coreProperties>
</file>